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1D3-7C50-4C2F-9F73-3C1C88B9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BC5-597A-49C4-9E01-5A9B0DA2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8F8-F2A6-41C2-BF9A-C231E099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3C5-BAAE-4634-B164-1357A2E9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B47-4B46-4C6B-9120-4D97C2E3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5E-9AD8-4B60-9FAC-1B884F5A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E2C-3B86-425B-B9CB-2D00BFE9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3FF-EC11-446B-ADFD-39412FAF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422-3D5F-4462-A856-29E0176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615-1F0D-4946-BD9A-5A09B40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C01-5355-4DEC-98A2-2A6B27D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A10-C9A6-4BE6-9E20-80479229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FBA-3AB4-462D-8262-D3FACCE5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1: Graphical Solutions to Equations in One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)= 30x+1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=12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05320" y="1447920"/>
          <a:ext cx="531468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447920"/>
                    <a:ext cx="53146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linear equation in one variable as f(x) = 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oint of intersection of f(x) and 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the point of intersection of f(x) and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linear equation in one variable by writing it as the functional equality f(x)=g(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raphical solution for an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each side of the equation represent a function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 two functions on on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point of intersection.   The x value represents the solution to the origin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x-6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each side represent a function of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2x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for x is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152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x)= 2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438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(x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791320" y="2971800"/>
            <a:ext cx="1371600" cy="2666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4005360"/>
            <a:ext cx="2819160" cy="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937600">
            <a:off x="6444000" y="4188600"/>
            <a:ext cx="1576440" cy="1057320"/>
          </a:xfrm>
          <a:prstGeom prst="leftArrowCallout">
            <a:avLst>
              <a:gd name="adj1" fmla="val 25002"/>
              <a:gd name="adj2" fmla="val 25310"/>
              <a:gd name="adj3" fmla="val 24850"/>
              <a:gd name="adj4" fmla="val 453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6= -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2x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 -3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>
            <a:off x="5943600" y="2743200"/>
            <a:ext cx="1371600" cy="26668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2514600"/>
            <a:ext cx="990720" cy="274320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x)= 2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(x)= -3x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graphically and algebra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-6=2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6    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x=2x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-2x  -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check it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165480" cy="3247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1828800"/>
            <a:ext cx="990360" cy="29718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(x)= -3x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791320" y="1904760"/>
            <a:ext cx="1447560" cy="281916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g(x)= 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a business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ufacturer can produce and sell x items per week at the following c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(x)= 30x+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venue from selling those items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(x)=1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break-even point, we must find when the revenue equals the c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a business application, continu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(x)= 30x+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(x)=11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two functions equal and sol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x=30x+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-30x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-3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x=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ufacturer must sell ten items to break 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application, p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so graph to check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666880" y="2209680"/>
          <a:ext cx="409572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409572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flipV="1">
            <a:off x="3276720" y="2057400"/>
            <a:ext cx="380880" cy="4191120"/>
          </a:xfrm>
          <a:prstGeom prst="line">
            <a:avLst/>
          </a:prstGeom>
          <a:ln w="507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2209320"/>
            <a:ext cx="609480" cy="175284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6T21:57:18Z</dcterms:created>
  <dc:creator>nuhs</dc:creator>
  <dc:description/>
  <dc:language>en-US</dc:language>
  <cp:lastModifiedBy>nuhs</cp:lastModifiedBy>
  <dcterms:modified xsi:type="dcterms:W3CDTF">2007-10-29T18:14:58Z</dcterms:modified>
  <cp:revision>8</cp:revision>
  <dc:subject/>
  <dc:title>Algebra 2A</dc:title>
</cp:coreProperties>
</file>